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6A6-0E47-456F-AAFB-AEC6F5F3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662-FAC3-40F1-9589-304F3E1E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9E8-EDDB-4EDD-9359-D4EF0FD4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C55-7CF5-4D5A-89EA-63EF0D67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FF6-C457-4F6E-A88A-77AF947C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8AA-00C5-43E5-8513-6F0DB2E5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F8C-C900-44D0-A90C-159CB5C2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442-3355-462C-A7F3-C8A7D750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AA1-A8C2-4D8E-8EB2-ACFF16EF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52B-EA6F-40D1-95D5-55DFC19D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D6E-9AF4-40D7-9E85-CA00EA06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D9A-D93B-4255-B0ED-810759EC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856D-9C34-4383-8CAF-C279D955B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981080"/>
            <a:ext cx="83822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3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ynomial Functions an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5200" y="914400"/>
            <a:ext cx="8848800" cy="628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2571840" cy="504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334120" y="2171880"/>
            <a:ext cx="1962000" cy="495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133640" y="3124080"/>
            <a:ext cx="2295360" cy="704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257800" y="3200400"/>
            <a:ext cx="174312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219320" y="4343400"/>
            <a:ext cx="1657080" cy="514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410080" y="4400640"/>
            <a:ext cx="3133800" cy="399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76320" y="914400"/>
            <a:ext cx="6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152280"/>
            <a:ext cx="8763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examples and graphs of 4 different power functions, illustrating the 4 typical types of end behavio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492200"/>
            <a:ext cx="3429000" cy="507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14922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825480" y="2349360"/>
                <a:ext cx="40514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ph: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52280" y="22543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1240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3 different polynomials of degree 3 whose zeros are -4, -2, and 3.  You may leave all your answers in factored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1687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41148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914400" y="5626080"/>
                <a:ext cx="6006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ph: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38080" y="4336920"/>
                <a:ext cx="67057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at are the zeros and their multiplicities for  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52280" y="55306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7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22:04:13Z</dcterms:created>
  <dc:creator>Harry S. Mills</dc:creator>
  <dc:description/>
  <dc:language>en-US</dc:language>
  <cp:lastModifiedBy>Harry S. Mills</cp:lastModifiedBy>
  <dcterms:modified xsi:type="dcterms:W3CDTF">2008-01-01T01:49:59Z</dcterms:modified>
  <cp:revision>10</cp:revision>
  <dc:subject/>
  <dc:title>Slide 1</dc:title>
</cp:coreProperties>
</file>